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F5F-8F90-49CC-89E3-534F3982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4C7-953A-4406-8D06-EFBB587D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2B835-12F8-4BDF-83B2-72829A31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7D199-2369-4D7E-BEF3-06B33E2B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A057E-BAEA-4194-9975-31B35884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C3D28-9AC1-4D97-88DD-E96B0468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36521-96B4-4EF8-B540-D76004DB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67050-9F3B-4EC7-A21E-4F2E2FB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60C7E-9256-44AD-B401-B508740C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2F157-325D-4694-B2DD-3DA9C932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A98F4-5922-47AE-90D3-34BEC11F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84A7B-2773-4A2A-A17E-51035344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0F1-5DBC-4A8B-B52C-8350F676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3D23F-B212-447E-BFAB-3F463380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65E5F-3294-40F9-BF0F-5DF19425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520B7-CEF4-46F9-89B9-9F4DE47E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727A6-56A1-4108-AB94-15450DD7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22060-6582-4EA1-8F5F-FA9FBE0E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AE813-E567-47F2-A2F8-D60C16C9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A10A9-EE77-49D8-8421-5B535666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000FB-7EC3-4EDB-BD6D-2E69CC42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52809-8269-4D64-B94A-A7AF2161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FD739-8275-4919-AE6A-316F3698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FCB-9014-4172-9D6F-BE88B4A7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BD903-008A-456B-9DDD-AABA8BF3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75EE35-153B-42AA-95CB-CD79673B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222472-30EB-4A65-8B11-2B88E2D8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FADDAB-1954-4F58-90A6-4997EA5A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4C28C0-590C-411B-AA1A-D35BB709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DDA9A0-D614-46E9-A8C4-CDA8254A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B7CC99-845A-4051-B4AA-F3079200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074ED3-0FC1-4CA7-85BB-59DF296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8F0AD7-BFC1-4D88-AFBA-9A83AC5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95749F-7817-49EF-BB22-CB7E4AD0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38C-1824-416A-9993-3CC741A8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E20A00-21D9-4621-B9B1-6A591BDA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C6F57C-3F40-4338-8009-D1F39BD0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529C89-1E75-4AA3-B145-B77929E0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0C57C-FCB8-414F-B4AE-58D24826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60E97-3FF6-44CC-8E9C-534A0DDA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B0AD3-F4D4-4369-87EE-F85D6D4C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93592-8100-4D41-865D-ABECE1A4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F21CF-30B8-4B05-BEBE-44933EA2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55863-8C33-4C90-B415-96369D5C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56B33-D64E-4237-9C4C-D85DCDA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4468-B350-4C4B-9ED6-13B24866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DE738-921E-4D4F-9AAC-DCDF5A2A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E4D18-0B45-483C-82EF-73A933F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E6568-FB5C-48F4-804B-65120C2B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E7C1A-0DAA-4EAA-8F80-87F9C593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60865-9B85-49BB-8E6C-4A28D9F9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9CCF-7206-41F7-B4B8-9292AA71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FEA8-183F-49BD-912B-8F727FE0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5A29-34E0-4625-B3F7-E029F5B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2125-4BE1-4A2D-A30C-CF3F3F05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43FB-22CF-4130-85D7-894A5683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31A-935B-4F15-B6E0-E24964E2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4FFE-4EE0-4DBE-A46E-3146CC94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6606-3761-4E96-B679-54E85140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C3C7-73FC-448C-81D3-E286F52F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20D0-A8E9-4006-850F-277E2EA5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0D28-28B7-47A2-B3CC-4FD92D23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494E-8509-4E1A-9494-5886778E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6390-3827-46EC-8097-FB5C9734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263B-3194-4857-B196-781D7701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11419-6D27-4560-861B-ED4A4855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9E9C-048E-41AE-907F-CAA0A6E3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7EF-16D0-466C-8313-A73F1EE1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DD33-99E9-4BCC-80D3-BEE10168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F310-2948-4AA8-8802-5C92799F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FF1C-4A0C-4C04-8D3B-49319EE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0149-9C7D-4025-B87E-8B3C638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0EB57-961D-441D-ABAA-72B9BD52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9C54-9531-4320-94C9-172369EB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0A4C-7E52-4D8C-B03B-0A7CB7CC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ECCF2-8FAA-4E60-A88B-7718B49E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D1529-CB0B-42A0-A1D9-CA02DF5F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C5B4-8A12-40A7-AB4B-F6C0803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357-D0AF-4FC9-A83F-04BF0017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654E-FDD6-47B0-8491-3D236B06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D71E-AAB5-47A7-8371-923A2A1A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1D94-0CF0-4116-B5D2-19724957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B6D14-5CE3-43B5-B515-530F0E87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15D7B-D85F-4B73-99D6-E6B4DEBD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854C3-9A25-4A03-B021-2CCA0A08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B63A8-8CCA-4027-A4A0-422CABD2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9060-22A6-4E1A-B90F-4C0CE6C9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4B85-7F05-490C-BD79-35AB5D7B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C5CD1-C6F6-4246-B2F5-A721DBB9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004-E42B-4916-8ADC-918D459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DAEF6-9AC0-4A16-843C-73C31553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33507-CA19-47E9-9893-3F18754C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725D6-BCED-4F31-98CA-6783E811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F504A-3F01-4E26-ABF2-D6B3FE20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FAF0E-71C0-4077-9E27-1048BA77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34A8D-1894-408B-91A0-6D1180F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472FC-57A7-4EA6-A735-2474EA0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BBEE2-8252-491F-AD72-1560EB13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A770-099D-4DB7-9D76-6AE41F1F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BE81C-5ABF-4928-9316-13BA2E9A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568-BE7C-4C68-831C-E78601B0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72F8-B85A-440D-8F0F-7FF63C98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3955D-CC38-42D4-AEAE-AB8053CA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19727-2C27-471E-BBA7-7B00704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5C70-E12D-4CBE-B676-7E36811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B16B9-0F2E-4DE6-80AB-71E4CD88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21D26-0882-4F45-A2FC-C8E47A2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758E7-E1F5-4943-8242-44B24F83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63AB-D9F0-4021-BD94-680B5C8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6B04-1898-4904-9D11-AFED39EE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9351-4C2B-4B36-87D9-3046A694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B7B-53A0-4BE6-962A-5206DF19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8A2E-7DDE-47A9-AF93-495BF8AE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5FBE-8A4D-4A9A-B926-0F430897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12616-E1A8-4622-8889-55624B8B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C7FE-FBFB-479D-A7F9-6EAAD232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E740D-966A-4F89-9A06-CE89B0FF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08336-F9CD-4EB6-9174-37EBE3E1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00130-E259-4D27-963C-65DD344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363D-4FCF-4D98-B6C7-9C45F21F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28DBB-2148-4F6F-A5B8-CC357E5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8C4D5-751D-4FD2-8062-6064A3A9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AAE-FEAA-4551-A9A8-0F9205E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98E34-501F-4931-885E-7D62016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EAE84-300D-4EE8-B5E6-7CB9DD47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7E49C-8483-45A0-8F6D-45FE9005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AB8E2-1551-4BE9-B102-93F19CEC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EC4CE-0723-4D68-BF13-021DED79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A493B-BC66-46C0-BEFD-CD6A99F5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35AFE-4617-48AB-AE3B-A4DCC9D2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FFED-4C52-408D-A8BE-81AB2A99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8C46-328B-472B-B6B3-A6F0FF32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E2EC4-B121-4001-BB50-BF23DF6D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4FF-101D-4A6E-A9BF-99C7C620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24CE6-C570-42DB-B204-2FD2652C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57ED7-D91F-4C0E-A11A-6AD82820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DED99-D8AB-4DA6-9EA0-17AFB0DB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C8111-04DD-4DF8-9716-B8F94C58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B17B5-DA1B-4E5D-AAC3-DD2B3A8A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0B5B6-8BCD-40C1-B5CE-87548F57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52A73-8449-4FA1-8833-A78C0982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DA947-4875-475A-B488-391A4530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55101-22CC-43FD-B67D-CA609679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4EFD2-8CD3-4B17-9E86-82AB645F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4B6-F2EA-428C-8B10-3F8068AAEA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3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3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3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1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2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4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5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DCAE-13B8-4C10-BF2C-EB48F0B5564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F45-5A0F-46F8-85B3-58E30EF54F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6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3E5A-033D-4583-84E4-BDCC0EDAF0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2C69-EFCC-4E33-BB00-4EC4DA64DD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33A5-EAF1-4F42-A9BE-92D0E1AFF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B59A-2A2C-4856-9396-32CEC0609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BF2E-CB8C-4755-8A67-EA6D4AB81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4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290E-020A-4471-8DB2-8E7FC8DDD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0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CF83-9788-47EB-B3FE-0E453DC1F7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8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28B5-2851-401C-BA88-5ED90A475D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5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5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6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3D0-9111-47D3-9461-AEE2E96318C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 Cas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r : Nick Gr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352680" cy="23814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log cabin"/>
          <p:cNvPicPr/>
          <p:nvPr/>
        </p:nvPicPr>
        <p:blipFill>
          <a:blip r:embed="rId2"/>
          <a:stretch/>
        </p:blipFill>
        <p:spPr>
          <a:xfrm>
            <a:off x="2286000" y="4267080"/>
            <a:ext cx="4762440" cy="222912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garaj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garaje muy grande, como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ocina es moderno,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arden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jarden es una lujoso nuv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1371600" y="217188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patio muy bello es nuev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"/>
          <p:cNvSpPr/>
          <p:nvPr/>
        </p:nvSpPr>
        <p:spPr>
          <a:xfrm>
            <a:off x="3505320" y="4038480"/>
            <a:ext cx="914400" cy="91440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1295280" y="2800440"/>
            <a:ext cx="606744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cuart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el cuarto muy increibel,lujoso es gra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sal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omador es estupendo,bello,fabuloso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819520" cy="210168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038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a Ba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ñ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l ba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Arial"/>
              </a:rPr>
              <a:t>ñ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 es antiguo,viej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1600200" y="2897280"/>
            <a:ext cx="54100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medor muy grande and como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4572000" cy="336852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0" y="4290840"/>
            <a:ext cx="3581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5:11Z</dcterms:created>
  <dc:creator>grovernic</dc:creator>
  <dc:description/>
  <dc:language>en-US</dc:language>
  <cp:lastModifiedBy>grovernic</cp:lastModifiedBy>
  <dcterms:modified xsi:type="dcterms:W3CDTF">2011-04-07T18:03:51Z</dcterms:modified>
  <cp:revision>4</cp:revision>
  <dc:subject/>
  <dc:title>La Casa</dc:title>
</cp:coreProperties>
</file>